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20E-6BA9-439F-BD7B-2F567CCF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971-2956-4A2F-BF0F-228130A9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0C0-E9C1-49FF-A7E4-C4603CB2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81E-8A29-4789-926C-CE622083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58A-6D4B-4AB3-9A3D-BED1EBF8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4AC-BE4E-4D81-8AFC-A1373EE5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6FA-55FC-465F-B056-9C605B30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A74-2DD2-4051-85D5-00815309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A9B-FA2B-40D7-9704-3FB4E05B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D00-B42D-4967-B729-D8F8DA33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FAA-8497-4A81-B4BE-DC8FF531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929-1397-4E22-8F64-7D00DF25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D29D-6B08-40A7-B9D5-D2A830CBFC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Виталий\Desktop\Картинки\6afbb51c1360.jpg"/>
          <p:cNvPicPr/>
          <p:nvPr/>
        </p:nvPicPr>
        <p:blipFill>
          <a:blip r:embed="rId1"/>
          <a:stretch/>
        </p:blipFill>
        <p:spPr>
          <a:xfrm>
            <a:off x="0" y="0"/>
            <a:ext cx="4214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4214880" y="285840"/>
            <a:ext cx="4929120" cy="85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ит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хал один молодой человек на новом сверкающем «ягуаре» в прекрасном настроении, напевая какую-то мелодию. Вдруг увидел он детей, сидящих у дороги. После того, как он, осторожно объехав их, собрался снова набирать скорость, он вдруг услышал, как в машину ударился камень. Молодой человек остановил машину, вышел из неё и, схватив одного из мальчишек за шиворот, начал его трясти с криком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    — Паршивец! Какого чёрта ты бросил в мою машину камень! Ты знаешь, сколько стоит эта машина?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  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кие альтруистические поступки может совершить челов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Виталий\Desktop\Картинки 2\65cfe6c6d93bb3626e351b7d13323e28.jpg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Виталий\Desktop\pione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Виталий\Desktop\1d407e450dc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Виталий\Desktop\ses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0" y="0"/>
            <a:ext cx="2928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тс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Виталий\Desktop\volontery2(3).jpg"/>
          <p:cNvPicPr/>
          <p:nvPr/>
        </p:nvPicPr>
        <p:blipFill>
          <a:blip r:embed="rId1"/>
          <a:stretch/>
        </p:blipFill>
        <p:spPr>
          <a:xfrm>
            <a:off x="2928960" y="0"/>
            <a:ext cx="6215040" cy="3571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428760" y="785880"/>
            <a:ext cx="221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детском до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Виталий\Desktop\7052.4.jpg"/>
          <p:cNvPicPr/>
          <p:nvPr/>
        </p:nvPicPr>
        <p:blipFill>
          <a:blip r:embed="rId2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Виталий\Desktop\pomosh_z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Виталий\Desktop\8f554303d117fc124c9ab8ca508437b1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Виталий\Desktop\volonter3.jpg"/>
          <p:cNvPicPr/>
          <p:nvPr/>
        </p:nvPicPr>
        <p:blipFill>
          <a:blip r:embed="rId1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Виталий\Desktop\Картинки\l4_69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Виталий\Desktop\picture-390h.jpg"/>
          <p:cNvPicPr/>
          <p:nvPr/>
        </p:nvPicPr>
        <p:blipFill>
          <a:blip r:embed="rId1"/>
          <a:stretch/>
        </p:blipFill>
        <p:spPr>
          <a:xfrm>
            <a:off x="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Виталий\Desktop\1.jpg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Виталий\Desktop\i.jpg"/>
          <p:cNvPicPr/>
          <p:nvPr/>
        </p:nvPicPr>
        <p:blipFill>
          <a:blip r:embed="rId3"/>
          <a:stretch/>
        </p:blipFill>
        <p:spPr>
          <a:xfrm>
            <a:off x="3857760" y="0"/>
            <a:ext cx="9903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Виталий\Desktop\h_0Z24KGLyamFO86HdBAQs3DbRolzShuE1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Виталий\Desktop\Картинки\6afbb51c1360.jpg"/>
          <p:cNvPicPr/>
          <p:nvPr/>
        </p:nvPicPr>
        <p:blipFill>
          <a:blip r:embed="rId1"/>
          <a:stretch/>
        </p:blipFill>
        <p:spPr>
          <a:xfrm>
            <a:off x="0" y="0"/>
            <a:ext cx="4214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4214880" y="0"/>
            <a:ext cx="492912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  —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остите меня, мистер, — ответил мальчик. — У меня не было намерения причинить вред вам и вашей машине. Дело в том, что мой брат — инвалид, он вывалился из коляски, но я не могу поднять его, он слишком тяжёл для меня. Уже несколько часов мы просим помощи, но ни одна машина не остановилась. У меня не было другого выхода, кроме как бросить камень, иначе вы бы тоже не остановились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   Молодой человек помог усадить инвалида в кресло, пытаясь сдержать слёзы и подавить подступивший к горлу ком. Затем он пошёл к своей машине и увидел вмятину на новенькой блестящей двери, оставшуюся от камн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Виталий\Desktop\1202faa8c7334e67c6e200eae33fa343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Виталий\Desktop\Картинки\220854187.jpg"/>
          <p:cNvPicPr/>
          <p:nvPr/>
        </p:nvPicPr>
        <p:blipFill>
          <a:blip r:embed="rId1"/>
          <a:stretch/>
        </p:blipFill>
        <p:spPr>
          <a:xfrm>
            <a:off x="4524480" y="0"/>
            <a:ext cx="4619520" cy="380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Виталий\Desktop\Картинки\1239271255_hiop.ru_italy_26.jpg"/>
          <p:cNvPicPr/>
          <p:nvPr/>
        </p:nvPicPr>
        <p:blipFill>
          <a:blip r:embed="rId2"/>
          <a:stretch/>
        </p:blipFill>
        <p:spPr>
          <a:xfrm>
            <a:off x="0" y="3571920"/>
            <a:ext cx="9144000" cy="3286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Виталий\Desktop\Картинки\1239271255_hiop.ru_italy_06.jpg"/>
          <p:cNvPicPr/>
          <p:nvPr/>
        </p:nvPicPr>
        <p:blipFill>
          <a:blip r:embed="rId3"/>
          <a:stretch/>
        </p:blipFill>
        <p:spPr>
          <a:xfrm>
            <a:off x="0" y="0"/>
            <a:ext cx="4540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Виталий\Desktop\66176619.jpg"/>
          <p:cNvPicPr/>
          <p:nvPr/>
        </p:nvPicPr>
        <p:blipFill>
          <a:blip r:embed="rId1"/>
          <a:stretch/>
        </p:blipFill>
        <p:spPr>
          <a:xfrm>
            <a:off x="642960" y="428760"/>
            <a:ext cx="785808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Виталий\Desktop\Картинки 2\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142920" y="285840"/>
            <a:ext cx="87152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льтруизму противостоит эго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Эгоизм </a:t>
            </a: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— это действия, направленные на удовлетворение личных интересов, в том числе и в ущерб интересам других людей или обществ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Виталий\Desktop\картинки3\10508649.jpg"/>
          <p:cNvPicPr/>
          <p:nvPr/>
        </p:nvPicPr>
        <p:blipFill>
          <a:blip r:embed="rId1"/>
          <a:stretch/>
        </p:blipFill>
        <p:spPr>
          <a:xfrm>
            <a:off x="6567480" y="4224240"/>
            <a:ext cx="25765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571680" y="285840"/>
            <a:ext cx="814356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«Всё для меня, всё ради меня» — вот принцип эгоиста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н спокойно может нарушать нравственные нормы и пренебрегать общественными ценнос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Виталий\Desktop\картинки3\575088.jpg"/>
          <p:cNvPicPr/>
          <p:nvPr/>
        </p:nvPicPr>
        <p:blipFill>
          <a:blip r:embed="rId1"/>
          <a:stretch/>
        </p:blipFill>
        <p:spPr>
          <a:xfrm>
            <a:off x="0" y="4857840"/>
            <a:ext cx="3635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14200" y="357120"/>
            <a:ext cx="8715600" cy="78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кие типы эгоизма выделя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Крайний эгоиз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оявляется в виде самомнения, неуважения к другим людям, пренебрежения их достоинством и правами. Окружающие люди воспринимаются только как средство для достижения собственных це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42920" y="500040"/>
            <a:ext cx="88581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Разумный эго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—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пособность человека, преследуя свои интересы, содействовать общему благу. Разумный эгоист понимает, что удовлетворить свои интересы он может, только заботясь об окружающих его людях и обществе, в котором он живё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428760" y="357120"/>
            <a:ext cx="8286480" cy="70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обака на сене лежит - сама не ест и другим не да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Люблю тебя, когда я у тебя; постыл ты мне, когда ты у мен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сле меня хоть трава не р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перва ты меня повези, а потом я на тебе поед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е до дружк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до своего брюш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:\Users\Виталий\Desktop\картинки3\522.jpg"/>
          <p:cNvPicPr/>
          <p:nvPr/>
        </p:nvPicPr>
        <p:blipFill>
          <a:blip r:embed="rId1"/>
          <a:stretch/>
        </p:blipFill>
        <p:spPr>
          <a:xfrm>
            <a:off x="4000680" y="4143240"/>
            <a:ext cx="5000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Виталий\Desktop\Картинки\6afbb51c1360.jpg"/>
          <p:cNvPicPr/>
          <p:nvPr/>
        </p:nvPicPr>
        <p:blipFill>
          <a:blip r:embed="rId1"/>
          <a:stretch/>
        </p:blipFill>
        <p:spPr>
          <a:xfrm>
            <a:off x="0" y="0"/>
            <a:ext cx="42148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4214880" y="214200"/>
            <a:ext cx="4929120" cy="76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н ездил многие годы на этой машине, и всякой раз говорил «нет» механикам на предложение отремонтировать эту вмятину на дверце, потому что она каждый раз напоминала ему о том, что если ты проигнорируешь шёпот, в тебя полетит камень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Виталий\Desktop\Картинки\6afbb51c1360.jpg"/>
          <p:cNvPicPr/>
          <p:nvPr/>
        </p:nvPicPr>
        <p:blipFill>
          <a:blip r:embed="rId1"/>
          <a:stretch/>
        </p:blipFill>
        <p:spPr>
          <a:xfrm>
            <a:off x="0" y="0"/>
            <a:ext cx="42148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4500720" y="285840"/>
            <a:ext cx="392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оразмышля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4214880" y="1000080"/>
            <a:ext cx="4929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то герои этой притч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ак отреагировал хозяин машины, услышав удар камня?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ак объяснил причину своего поступка один из дет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аким образом  слова мальчика:«Уже несколько часов мы просим помощи, но ни одна машина не остановилась. У меня не было другого выхода, кроме как бросить камень, иначе вы бы тоже не остановились »,- характеризуют люд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чему хозяин машины во время ремонта отказывался убирать вмятину на н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«Каждый раз напоминала ему о том, что если ты проигнорируешь шёпот, в тебя полетит камень». Как ты понимаешь значение этих сл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Users\Виталий\Desktop\картинки3\56729893_ava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Виталий\Desktop\Картинки 2\65cfe6c6d93bb3626e351b7d13323e28.jpg"/>
          <p:cNvPicPr/>
          <p:nvPr/>
        </p:nvPicPr>
        <p:blipFill>
          <a:blip r:embed="rId2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214200" y="142920"/>
            <a:ext cx="42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ЛЬТРУИЗ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4714920" y="214200"/>
            <a:ext cx="44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ЭГО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0" y="357120"/>
            <a:ext cx="9144000" cy="78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Вы узнает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Что такое  альтруиз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Что такое эгоиз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Что значит быть разумным эгоисто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Виталий\Desktop\дружба\7d83337d513d.jpg"/>
          <p:cNvPicPr/>
          <p:nvPr/>
        </p:nvPicPr>
        <p:blipFill>
          <a:blip r:embed="rId1"/>
          <a:stretch/>
        </p:blipFill>
        <p:spPr>
          <a:xfrm>
            <a:off x="0" y="0"/>
            <a:ext cx="3171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42920" y="142920"/>
            <a:ext cx="878688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ак что же такое альтруиз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ово «альтруизм» происходит от латинского слова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альтер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— другой.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Альтруизм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— это любые действия, направленные на благо другого, будь то человек или общество. В более точном смысле альтруизм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— это нравственная, жизненная позиция, которая требует от человека совершения бескорыстных поступков ради других людей или ради общих цел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571680" y="71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Чего хочет альтруис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Users\Виталий\Desktop\картинки3\9ad551f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0" y="607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Альтруист хочет, чтобы всем было хорош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85840" y="285840"/>
            <a:ext cx="8572320" cy="88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чему люди совершают альтруистические поступ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ачастую человек помогает другим только потому, что может это сделать. Он чувствует в себе силы, которые может потратить на добрые дела. Сочувствуя чужому горю, страданию и нужде, человек свободно отдаёт людям свои силы независимо от возможных последствий для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0:20:48Z</dcterms:created>
  <dc:creator>Виталий</dc:creator>
  <dc:description/>
  <dc:language>en-US</dc:language>
  <cp:lastModifiedBy>Виталий</cp:lastModifiedBy>
  <dcterms:modified xsi:type="dcterms:W3CDTF">2010-06-04T16:04:03Z</dcterms:modified>
  <cp:revision>44</cp:revision>
  <dc:subject/>
  <dc:title>Слайд 1</dc:title>
</cp:coreProperties>
</file>